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EAA-AC83-4A98-9AB4-C338E5B8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CD6-41B8-4C77-B9F3-F440F6D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D07-0E41-4E3E-B863-07A80EC7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048-65F7-44A6-89C0-1E56D7D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E45-DEE3-4D02-8F02-91279B8B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701-C3CA-423E-BF06-4D0AA71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BF7-994C-4F01-8F79-B87F6BA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D6F-5C1E-4319-B632-641E19B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D13-421A-4F24-B008-A44BEE6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40A-709A-4BDD-B2F5-7ACA3C2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276-C26A-4393-AB89-5793E0D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4D0-26DF-4328-B3B2-9D0599F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FFC2-A615-4FE4-ACA2-7198708BE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hyperlink" Target="file:///tmp/home/.config/libreoffice/4/user/gallery/WHOOSH.WAV" TargetMode="Externa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4191480" y="640008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By: Vander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9" descr="flowers 012"/>
          <p:cNvPicPr/>
          <p:nvPr/>
        </p:nvPicPr>
        <p:blipFill>
          <a:blip r:embed="rId1"/>
          <a:srcRect l="6275" t="14118" r="5883" b="22352"/>
          <a:stretch/>
        </p:blipFill>
        <p:spPr>
          <a:xfrm>
            <a:off x="2666880" y="1676520"/>
            <a:ext cx="3962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terotroph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04920" y="2590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sms that cannot use the su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energy direct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920" y="51814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lso known 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enosine triphosphat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685800" y="20574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molecule consists of adenine, a 5-carbon sugar called ribose, and three phosphate grou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0" y="510552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gmen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0880" y="220968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s gather the sun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 energy with light absorbing molecules called 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3520" y="5867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dolph Marc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-11520" y="3168720"/>
            <a:ext cx="864504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scribed the process by which  electr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red from one  molecule to anot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transport chain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609480" y="5410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n Ingenhousz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0" y="22860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concluded that aquatic plants produce oxygen bubbles in the light but not in the dark. Plants need sunlight to produce oxy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n van Helm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380880" y="19810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careful measurement of a plan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 water intake and mass increase, he concluded that trees gain most of their mass from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8580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o wa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oseph Priest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088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cientist used a bell jar, a candle, and a plant.  He finds that good air is given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 Your 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533520" y="5867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o is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lvin Calv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304920" y="2590920"/>
            <a:ext cx="883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traced the chemical path that carbon follows to form gluco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 the thylakoid membra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09480" y="2209680"/>
            <a:ext cx="775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system and electron transport chain are located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iochemical pathwa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0"/>
          <p:cNvSpPr/>
          <p:nvPr/>
        </p:nvSpPr>
        <p:spPr>
          <a:xfrm>
            <a:off x="2286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product of one reaction is consumed in the next reaction this is known as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9">
            <a:hlinkClick r:id="rId14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62120" y="5029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P and NAD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57200" y="24382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ergy-carrying end products of the light-dependent reactions are _____ &amp;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86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onate electrons to photosystem I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685800" y="2971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participated directly in the light-dependent reactions by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ght-Dependent Reaction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094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photosystem I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33520" y="25146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from light is absorbed by chlorophyll and transferred to electrons, and then these high-energy electrons are passed on to the electron transport chain.  Name the phot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5720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ere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takes place in the stroma (outside the grana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33520" y="2209680"/>
            <a:ext cx="7391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where the Calvin Cycle takes place in a plant ce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762120" y="4724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x carbon dioxide molecu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57200" y="2133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enters the Calvin Cycle from the atmosphe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38862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the remaining 3-carbon molecules are converted back to a five carbon molecules, which are ready to combine with new carbon dioxide molecules to begin the cycle a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21760" y="2133720"/>
            <a:ext cx="829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the Calvin Cycle comple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80880" y="3886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gar and wa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2057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wo products of the Calvin Cy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04920" y="548640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P &amp; NADP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0" y="18288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alvin Cycle uses ___ &amp; ____ from the light-dependent reactions to produce high-energy sug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0880" y="2590920"/>
            <a:ext cx="8077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the process which plants use to convert the energy of the sun to convert water and carbon dioxide into carbohydrates and oxyge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51055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isi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ctrum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5800" y="21337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lors of sunlight form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3809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lorophyll a and chlorophyll b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igments that absorb light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e su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ltimate source of life-giving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gment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04920" y="4876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nitially increases and then levels of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04920" y="259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light intensity increases, the rate of photosynthesis will do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troph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62480" y="2438280"/>
            <a:ext cx="744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ganisms that make the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wn fo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8080" y="5181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form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P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enosine diphosph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20574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result of the third phosphate group being removed from AT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rcRect l="57430" t="0" r="0" b="57271"/>
          <a:stretch/>
        </p:blipFill>
        <p:spPr>
          <a:xfrm>
            <a:off x="762120" y="4267080"/>
            <a:ext cx="2209680" cy="89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2"/>
          <a:srcRect l="0" t="0" r="54457" b="56877"/>
          <a:stretch/>
        </p:blipFill>
        <p:spPr>
          <a:xfrm>
            <a:off x="4724280" y="4191120"/>
            <a:ext cx="2667240" cy="1017360"/>
          </a:xfrm>
          <a:prstGeom prst="rect">
            <a:avLst/>
          </a:prstGeom>
          <a:ln w="0">
            <a:noFill/>
          </a:ln>
        </p:spPr>
      </p:pic>
      <p:sp>
        <p:nvSpPr>
          <p:cNvPr id="143" name="Line 12"/>
          <p:cNvSpPr/>
          <p:nvPr/>
        </p:nvSpPr>
        <p:spPr>
          <a:xfrm>
            <a:off x="3048120" y="472428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ustin Zahm</cp:lastModifiedBy>
  <dcterms:modified xsi:type="dcterms:W3CDTF">2014-02-21T18:59:09Z</dcterms:modified>
  <cp:revision>98</cp:revision>
  <dc:subject/>
  <dc:title>Semester 2</dc:title>
</cp:coreProperties>
</file>